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1AD-5D4C-4DBC-B73D-CCD82FA2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B6D-3BAE-4E35-80D1-9EEC34C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DD7-04FC-4C18-9C1B-5DDA40CE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B28-3FE5-43B0-9474-B51543F7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22B-A066-4101-9D7D-CBD6D8AE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4DB-7B7D-4B62-A1CD-4DFA9A70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621-1861-4DD5-B29E-EBFAB8E3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719-BB5F-4C82-85CA-E7A66FD9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000-8A00-4F3E-A07B-BF372D66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F78-3576-4238-A44E-6F2490E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457-4036-4F3C-8A94-E5D04D8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F49-FEA1-442C-80B2-4D023C29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4C0-12DA-4DCB-9B35-391395F1A73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7 Smútok strie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esť a žia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útok striedal bolesť a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íž svoj niesol som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chránil m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chránil ma môj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, keď kráč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om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om našiel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iel m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iel m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ovi dobroreč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ňa dal život svo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život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život mô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59:06Z</dcterms:modified>
  <cp:revision>22</cp:revision>
  <dc:subject/>
  <dc:title>Je veľký náš Pán, on slávy je Kráľ Nech do všetkých strán  spev vrúcnych znie chvál.</dc:title>
</cp:coreProperties>
</file>